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8D039F-7704-4ECA-AA1B-CFACB915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F20A46-8A5B-49EB-8858-CA0C76402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E49570-5998-4963-8CA5-59097AF73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860-642E-4368-A787-C00C3D9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CC9-C30B-4BE9-A993-D9A00AE6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1D4-71DA-4711-B8B1-AD99A0C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2A1-5BDE-4DAC-A18D-C0080390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18CD-FF77-414F-BB42-1B6D83FB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A0D3-A865-4BF1-88A0-4BE2041A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76B8-544A-48B5-ABAA-D14E6DAA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86DE-E23C-44EF-AF6A-3EFCCAB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AB7B-B991-4CA8-9939-0CDAD8E8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6361-480B-404A-9FAA-69E0CE3E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F13-96F4-4438-8820-49905D0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A39-29D2-49B8-9111-C086598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D4D6-3656-47A2-8174-132F0D9F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A579-BD15-43B2-B27A-06829A4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A930-AF28-4DBF-826C-47FAC66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2FA-F9CB-4E56-A521-F9CA2485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9BA-C66C-4360-883C-F1464BB8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4C6D-E7F7-4764-830D-0477F3E3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ACD0-A129-45F7-A3A9-1526BAC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7C70-504A-4905-9C00-D5E5C111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6A7D-A055-4EE1-A97D-742732C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455E-686A-46F2-9F75-7DA487B2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8E4-BAAB-48DD-8792-6890BF23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9E61-6B56-4AA9-B55F-6D607D8A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059D-D04B-44D1-B115-DF20B70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6A6C-6D4F-4C90-A1B2-28FE481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C13B-BEB5-4BC0-B172-0EEAD03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8D7D-9CCF-4330-89F7-3F82C7B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4259-FED6-4EFE-9A1D-639BF4A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B9CE-D923-4E84-A53F-A09DDAF7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FD21-BA57-4539-B3E1-D7CB4902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76A6-1127-4B1E-AB35-E50F12FC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62D2-646A-4473-A0A6-DBD7E1CC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713-6893-4142-8029-22B74F9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0BF8-E730-4888-8CB4-1E3658E2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1D81-8E87-483D-8CEE-2FC6DB92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B45B-EB36-4079-A3C0-16F9944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2903-B73D-4966-BD74-821E5AB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76E3-EEFD-4307-AD48-BC74BF2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598D-6EAC-4841-85DC-D44DDE8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FD08F-7C2B-4C4D-A239-F506650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5419-FE5A-4206-8789-6A692CEA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73AF-2E4B-4A31-A180-C71638C7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0CD2-AB80-4385-AEF3-6F4D886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9D0-93AF-40C6-ADF3-990C3D6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B37D-C255-4243-A4A3-EB00141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EB16-B7D3-4572-BBC1-9D063DC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A183-4EAB-42B0-ACF7-2F0509B1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3AC5-0A7B-46DF-8B42-EF2BEF7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8096-35BB-4E1E-BFE2-7B67AEAA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0E6C-CD93-42B4-B27B-D37716E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64AEF-082F-48E5-8403-92F0644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3536-D17C-49AF-BBE4-498CD04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EF9BD-B08D-4EA4-9335-BF2A5FB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8285-4AB2-4524-9048-6C76C71E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147-F592-4720-8741-A67BB0F9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C6A51-66C6-4F11-AD6E-9FC7104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2B1D4-6767-4455-9E4A-FF0C08F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CA176-CFE2-4154-BD55-AB082AAC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025EC-38E6-4920-9543-E220A44A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7211F-CCDC-4890-8F1B-6CB9D1B4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401F-B2D4-4852-84CA-CF6F08C3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5DB2-FD8A-4C38-B4F5-38551D1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A754-01BB-466F-8626-394086B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D11D-F2C9-4C52-9D9E-F38F5360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0F27-A7BE-4CE8-BC76-38192897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1DA-F4F6-4605-8685-02E35C3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4B5B6-1C4A-4135-8114-43F9DCE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9B89-ED56-4D98-8A74-EE6BEC58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2FA67-8BA3-4DEC-98A4-B0AA54A2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A9E-CADB-49DD-80B3-0F65F3A3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E73-3C51-42CE-8032-817C400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3EBCD3-7FC3-4776-86F1-D88A6DB98A6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B5D619-3192-4A31-BAC5-A184F11C540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828800" y="1832040"/>
            <a:ext cx="5486040" cy="3962160"/>
          </a:xfrm>
          <a:prstGeom prst="rect">
            <a:avLst/>
          </a:prstGeom>
          <a:solidFill>
            <a:srgbClr val="69676d"/>
          </a:solidFill>
          <a:ln cap="sq" w="44280">
            <a:solidFill>
              <a:srgbClr val="ffffff"/>
            </a:solidFill>
            <a:miter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Book Antiqua"/>
              </a:rPr>
              <a:t>Click icon to add pict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5B63BA-8C1D-414B-8873-83B7947F2FE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96060D-8C01-4308-9A3D-D629092C005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7200" y="2362320"/>
            <a:ext cx="4039920" cy="37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645080" y="2362320"/>
            <a:ext cx="4041360" cy="37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8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9F859B-3014-4DFD-BD01-EC2E0F8F585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F4CB53-AE8D-4A64-8E3E-3FB1F867C9E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mory University Hospital</a:t>
            </a:r>
            <a:br>
              <a:rPr sz="4100"/>
            </a:br>
            <a:r>
              <a:rPr b="1" lang="en-US" sz="3300" spc="-1" strike="noStrike">
                <a:solidFill>
                  <a:srgbClr val="de0000"/>
                </a:solidFill>
                <a:latin typeface="Albertus Extra Bold"/>
              </a:rPr>
              <a:t>Emergency Department Field Observ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Content Placeholder 6" descr="EUH.jpg"/>
          <p:cNvPicPr/>
          <p:nvPr/>
        </p:nvPicPr>
        <p:blipFill>
          <a:blip r:embed="rId1"/>
          <a:stretch/>
        </p:blipFill>
        <p:spPr>
          <a:xfrm>
            <a:off x="380880" y="1523880"/>
            <a:ext cx="4723920" cy="4495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60" name="TextBox 7"/>
          <p:cNvSpPr/>
          <p:nvPr/>
        </p:nvSpPr>
        <p:spPr>
          <a:xfrm>
            <a:off x="5029200" y="2438280"/>
            <a:ext cx="3962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Friday 9.12.08:  8pm-11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Saturday 9.20.08:  8am-12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Monday 9.22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638680" y="3809880"/>
            <a:ext cx="2819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chemeClr val="accent1">
                    <a:lumMod val="60000"/>
                    <a:lumOff val="40000"/>
                  </a:schemeClr>
                </a:solidFill>
                <a:uFillTx/>
                <a:latin typeface="Lucida Sans"/>
              </a:rPr>
              <a:t>Group 7 Me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Kelly Bao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Denis M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Girish Venkat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YXIS MedStation</a:t>
            </a:r>
            <a:br>
              <a:rPr sz="4100"/>
            </a:b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utomated Medication Management Technolog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Content Placeholder 11" descr="DSC00038.JPG"/>
          <p:cNvPicPr/>
          <p:nvPr/>
        </p:nvPicPr>
        <p:blipFill>
          <a:blip r:embed="rId1"/>
          <a:stretch/>
        </p:blipFill>
        <p:spPr>
          <a:xfrm>
            <a:off x="2806920" y="1600200"/>
            <a:ext cx="3530160" cy="470808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20" name="PlaceHolder 2"/>
          <p:cNvSpPr>
            <a:spLocks noGrp="1"/>
          </p:cNvSpPr>
          <p:nvPr>
            <p:ph type="dt" idx="4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4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4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CF6E84-AD49-4BC9-8655-4DBE41B4B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ight Arrow 6"/>
          <p:cNvSpPr/>
          <p:nvPr/>
        </p:nvSpPr>
        <p:spPr>
          <a:xfrm>
            <a:off x="2133720" y="5105520"/>
            <a:ext cx="53316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164880" y="5105520"/>
            <a:ext cx="214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XIS: Narc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ccount for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ight Arrow 8"/>
          <p:cNvSpPr/>
          <p:nvPr/>
        </p:nvSpPr>
        <p:spPr>
          <a:xfrm flipH="1">
            <a:off x="6476400" y="3124080"/>
            <a:ext cx="53316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26" name="TextBox 10"/>
          <p:cNvSpPr/>
          <p:nvPr/>
        </p:nvSpPr>
        <p:spPr>
          <a:xfrm>
            <a:off x="7096680" y="3048120"/>
            <a:ext cx="158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narc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2 - “I Still Haven’t Found What I’m Looking For”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Content Placeholder 6" descr="DSC00041.JPG"/>
          <p:cNvPicPr/>
          <p:nvPr/>
        </p:nvPicPr>
        <p:blipFill>
          <a:blip r:embed="rId1"/>
          <a:stretch/>
        </p:blipFill>
        <p:spPr>
          <a:xfrm>
            <a:off x="778320" y="1600200"/>
            <a:ext cx="3396240" cy="45255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29" name="Content Placeholder 9" descr="DSC00042.JPG"/>
          <p:cNvPicPr/>
          <p:nvPr/>
        </p:nvPicPr>
        <p:blipFill>
          <a:blip r:embed="rId2"/>
          <a:stretch/>
        </p:blipFill>
        <p:spPr>
          <a:xfrm>
            <a:off x="4800600" y="2438280"/>
            <a:ext cx="3657240" cy="274284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30" name="PlaceHolder 2"/>
          <p:cNvSpPr>
            <a:spLocks noGrp="1"/>
          </p:cNvSpPr>
          <p:nvPr>
            <p:ph type="dt" idx="49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5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5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18AD9-B20F-49DF-82EB-8FB1B657D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5257800" y="2362320"/>
            <a:ext cx="2514240" cy="15235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34" name="Oval 13"/>
          <p:cNvSpPr/>
          <p:nvPr/>
        </p:nvSpPr>
        <p:spPr>
          <a:xfrm>
            <a:off x="7772400" y="3352680"/>
            <a:ext cx="685440" cy="53316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35" name="Oval 14"/>
          <p:cNvSpPr/>
          <p:nvPr/>
        </p:nvSpPr>
        <p:spPr>
          <a:xfrm>
            <a:off x="6858000" y="4343400"/>
            <a:ext cx="533160" cy="3805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6631920" y="16765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7851240" y="19051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7"/>
          <p:cNvSpPr/>
          <p:nvPr/>
        </p:nvSpPr>
        <p:spPr>
          <a:xfrm>
            <a:off x="7012800" y="54100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9"/>
          <p:cNvCxnSpPr/>
          <p:nvPr/>
        </p:nvCxnSpPr>
        <p:spPr>
          <a:xfrm flipH="1">
            <a:off x="6780960" y="2058120"/>
            <a:ext cx="1800" cy="22896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40" name="Straight Arrow Connector 22"/>
          <p:cNvCxnSpPr/>
          <p:nvPr/>
        </p:nvCxnSpPr>
        <p:spPr>
          <a:xfrm flipH="1">
            <a:off x="7999920" y="2286720"/>
            <a:ext cx="2160" cy="9907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41" name="Straight Arrow Connector 25"/>
          <p:cNvCxnSpPr>
            <a:stCxn id="338" idx="0"/>
          </p:cNvCxnSpPr>
          <p:nvPr/>
        </p:nvCxnSpPr>
        <p:spPr>
          <a:xfrm flipH="1" flipV="1">
            <a:off x="7162560" y="4800240"/>
            <a:ext cx="4320" cy="61020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pace Utilizat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Content Placeholder 5" descr="DSC00031.JPG"/>
          <p:cNvPicPr/>
          <p:nvPr/>
        </p:nvPicPr>
        <p:blipFill>
          <a:blip r:embed="rId1"/>
          <a:stretch/>
        </p:blipFill>
        <p:spPr>
          <a:xfrm>
            <a:off x="380880" y="1981080"/>
            <a:ext cx="4368600" cy="335232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5" descr="DSC00030.JPG"/>
          <p:cNvPicPr/>
          <p:nvPr/>
        </p:nvPicPr>
        <p:blipFill>
          <a:blip r:embed="rId2"/>
          <a:stretch/>
        </p:blipFill>
        <p:spPr>
          <a:xfrm>
            <a:off x="434340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 type="dt" idx="52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5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77D26B-4F96-4E01-A2A6-3EA7F6199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411840" y="5562720"/>
            <a:ext cx="5393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ther hall in the 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patient rooms, but less noise and less crow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10"/>
          <p:cNvSpPr/>
          <p:nvPr/>
        </p:nvSpPr>
        <p:spPr>
          <a:xfrm>
            <a:off x="457200" y="2438280"/>
            <a:ext cx="1904760" cy="761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921600" y="1295280"/>
            <a:ext cx="101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14"/>
          <p:cNvSpPr/>
          <p:nvPr/>
        </p:nvSpPr>
        <p:spPr>
          <a:xfrm>
            <a:off x="4267080" y="2590920"/>
            <a:ext cx="914040" cy="6854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352" name="Straight Connector 20"/>
          <p:cNvCxnSpPr>
            <a:stCxn id="350" idx="3"/>
          </p:cNvCxnSpPr>
          <p:nvPr/>
        </p:nvCxnSpPr>
        <p:spPr>
          <a:xfrm>
            <a:off x="1945440" y="1479960"/>
            <a:ext cx="2626920" cy="4428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353" name="Straight Arrow Connector 24"/>
          <p:cNvCxnSpPr/>
          <p:nvPr/>
        </p:nvCxnSpPr>
        <p:spPr>
          <a:xfrm flipH="1">
            <a:off x="4570920" y="1523880"/>
            <a:ext cx="1440" cy="91548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54" name="Straight Arrow Connector 25"/>
          <p:cNvCxnSpPr/>
          <p:nvPr/>
        </p:nvCxnSpPr>
        <p:spPr>
          <a:xfrm flipH="1">
            <a:off x="1371600" y="1676160"/>
            <a:ext cx="1800" cy="68616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Mobile Car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Content Placeholder 7" descr="DSC00048.JPG"/>
          <p:cNvPicPr/>
          <p:nvPr/>
        </p:nvPicPr>
        <p:blipFill>
          <a:blip r:embed="rId1"/>
          <a:stretch/>
        </p:blipFill>
        <p:spPr>
          <a:xfrm>
            <a:off x="380880" y="1981080"/>
            <a:ext cx="4495320" cy="337140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57" name="Content Placeholder 8" descr="DSC00051.JPG"/>
          <p:cNvPicPr/>
          <p:nvPr/>
        </p:nvPicPr>
        <p:blipFill>
          <a:blip r:embed="rId2"/>
          <a:stretch/>
        </p:blipFill>
        <p:spPr>
          <a:xfrm>
            <a:off x="5029200" y="1295280"/>
            <a:ext cx="3657240" cy="48765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58" name="PlaceHolder 2"/>
          <p:cNvSpPr>
            <a:spLocks noGrp="1"/>
          </p:cNvSpPr>
          <p:nvPr>
            <p:ph type="dt" idx="55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5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67C3A7-DDF0-48A3-9939-9F64F0FBBFE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5791320" y="2743200"/>
            <a:ext cx="1142640" cy="45684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5867280" y="1905120"/>
            <a:ext cx="456840" cy="60912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6338880" y="2133720"/>
            <a:ext cx="219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N strategic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5502960" y="3276720"/>
            <a:ext cx="2488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ergency depar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aster C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age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149480" y="541008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YN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4"/>
          <p:cNvSpPr/>
          <p:nvPr/>
        </p:nvSpPr>
        <p:spPr>
          <a:xfrm>
            <a:off x="3206880" y="5410080"/>
            <a:ext cx="112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ress Reduct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58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6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A835F3-BB4F-43AF-96BB-C56EAB368E5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57200" y="1676520"/>
            <a:ext cx="81529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48640" indent="-4114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 algn="just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 “</a:t>
            </a:r>
            <a:r>
              <a:rPr b="1" i="1" lang="en-US" sz="26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Impacts of stress and stress related illness in the emergency room is an issue of high concern. It has been researched that a good number of the nurses, doctors and the family members of admitted patients in the ER are prone to stress related illness.</a:t>
            </a:r>
            <a:r>
              <a:rPr b="1" lang="en-US" sz="26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36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bservat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29000" y="1219320"/>
            <a:ext cx="54097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Stress due to design of building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60’s Desig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arrow Walkway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athroom Acces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igh Noise Level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80000"/>
              </a:lnSpc>
              <a:spcBef>
                <a:spcPts val="281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White noise instruments did not work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Critical Incidents due to stres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ecurity personn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6 incidents in 6 month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Patient Stres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eels ignored when alon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eeping on monitor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Staff Stress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reak room less equipped and far off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ndles 4 patients each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28600" y="1143000"/>
            <a:ext cx="3123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Stress Induced 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Improper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No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Priv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Mor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Connector 5"/>
          <p:cNvCxnSpPr/>
          <p:nvPr/>
        </p:nvCxnSpPr>
        <p:spPr>
          <a:xfrm>
            <a:off x="3429000" y="1295280"/>
            <a:ext cx="360" cy="5258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Wherever the art of </a:t>
            </a:r>
            <a:r>
              <a:rPr b="1" lang="en-US" sz="3000" spc="-1" strike="noStrike">
                <a:solidFill>
                  <a:srgbClr val="ff0000"/>
                </a:solidFill>
                <a:latin typeface="Lucida Sans"/>
              </a:rPr>
              <a:t>medicine</a:t>
            </a: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 is loved, there is also a love of </a:t>
            </a:r>
            <a:r>
              <a:rPr b="1" lang="en-US" sz="3000" spc="-1" strike="noStrike">
                <a:solidFill>
                  <a:srgbClr val="ff0000"/>
                </a:solidFill>
                <a:latin typeface="Lucida Sans"/>
              </a:rPr>
              <a:t>humanity</a:t>
            </a: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” - Hippocr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Content Placeholder 4" descr="DSC00044.JPG"/>
          <p:cNvPicPr/>
          <p:nvPr/>
        </p:nvPicPr>
        <p:blipFill>
          <a:blip r:embed="rId1"/>
          <a:stretch/>
        </p:blipFill>
        <p:spPr>
          <a:xfrm>
            <a:off x="2857680" y="1668600"/>
            <a:ext cx="3428640" cy="4571640"/>
          </a:xfrm>
          <a:prstGeom prst="rect">
            <a:avLst/>
          </a:prstGeom>
          <a:ln w="76200">
            <a:solidFill>
              <a:srgbClr val="ffffff"/>
            </a:solidFill>
            <a:round/>
          </a:ln>
        </p:spPr>
      </p:pic>
      <p:sp>
        <p:nvSpPr>
          <p:cNvPr id="378" name="PlaceHolder 2"/>
          <p:cNvSpPr>
            <a:spLocks noGrp="1"/>
          </p:cNvSpPr>
          <p:nvPr>
            <p:ph type="dt" idx="6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6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6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A37F63-DE31-441F-BA18-0B16EABA3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dt" idx="6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6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DD5217-C1E7-4069-81A2-4010CEDB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57320" cy="4200120"/>
          </a:xfrm>
          <a:prstGeom prst="rect">
            <a:avLst/>
          </a:prstGeom>
          <a:ln w="9525">
            <a:noFill/>
          </a:ln>
        </p:spPr>
      </p:pic>
      <p:sp>
        <p:nvSpPr>
          <p:cNvPr id="385" name="TextBox 10"/>
          <p:cNvSpPr/>
          <p:nvPr/>
        </p:nvSpPr>
        <p:spPr>
          <a:xfrm>
            <a:off x="406440" y="1676520"/>
            <a:ext cx="51249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NTA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Kelly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tg552y@mail.gatech.e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Girish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venk@gatech.e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Denis 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masse3@mail.gatech.e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ow to get to Emory’s ED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Content Placeholder 4" descr="DSC00015.JPG"/>
          <p:cNvPicPr/>
          <p:nvPr/>
        </p:nvPicPr>
        <p:blipFill>
          <a:blip r:embed="rId1"/>
          <a:stretch/>
        </p:blipFill>
        <p:spPr>
          <a:xfrm>
            <a:off x="304920" y="1828800"/>
            <a:ext cx="4165200" cy="3123720"/>
          </a:xfrm>
          <a:prstGeom prst="rect">
            <a:avLst/>
          </a:prstGeom>
          <a:ln w="19050">
            <a:solidFill>
              <a:srgbClr val="ffffff"/>
            </a:solidFill>
            <a:round/>
          </a:ln>
          <a:effectLst>
            <a:outerShdw algn="ctr" blurRad="50760" dir="5400000" dist="50760" rotWithShape="0" sx="20000" sy="20000">
              <a:srgbClr val="000000">
                <a:alpha val="43000"/>
              </a:srgbClr>
            </a:outerShdw>
          </a:effectLst>
        </p:spPr>
      </p:pic>
      <p:pic>
        <p:nvPicPr>
          <p:cNvPr id="264" name="Picture Placeholder 4" descr="DSC00017.JPG"/>
          <p:cNvPicPr/>
          <p:nvPr/>
        </p:nvPicPr>
        <p:blipFill>
          <a:blip r:embed="rId2"/>
          <a:stretch/>
        </p:blipFill>
        <p:spPr>
          <a:xfrm>
            <a:off x="4648320" y="1828800"/>
            <a:ext cx="4165200" cy="312372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265" name="PlaceHolder 2"/>
          <p:cNvSpPr>
            <a:spLocks noGrp="1"/>
          </p:cNvSpPr>
          <p:nvPr>
            <p:ph type="dt" idx="22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AC2B80-A6E4-4B48-A126-7CF479745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358920" y="5181480"/>
            <a:ext cx="408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Open 24 hours a day, 7 days a week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,000 patient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5802840" y="5105520"/>
            <a:ext cx="2174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1364 Clifton Rd.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Atlanta, GA. 30320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(404) 712-7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e’re almost there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Content Placeholder 7" descr="DSC00016.JPG"/>
          <p:cNvPicPr/>
          <p:nvPr/>
        </p:nvPicPr>
        <p:blipFill>
          <a:blip r:embed="rId1"/>
          <a:stretch/>
        </p:blipFill>
        <p:spPr>
          <a:xfrm>
            <a:off x="380880" y="1752480"/>
            <a:ext cx="4134600" cy="310068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272" name="Content Placeholder 8" descr="DSC00019.JPG"/>
          <p:cNvPicPr/>
          <p:nvPr/>
        </p:nvPicPr>
        <p:blipFill>
          <a:blip r:embed="rId2"/>
          <a:stretch/>
        </p:blipFill>
        <p:spPr>
          <a:xfrm>
            <a:off x="4724280" y="1752480"/>
            <a:ext cx="4152600" cy="31143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273" name="PlaceHolder 2"/>
          <p:cNvSpPr>
            <a:spLocks noGrp="1"/>
          </p:cNvSpPr>
          <p:nvPr>
            <p:ph type="dt" idx="25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D65EB6-8C9D-40EA-B9EF-700768872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1457280" y="5029200"/>
            <a:ext cx="14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et p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5953680" y="5029200"/>
            <a:ext cx="17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or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Waiting Room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Content Placeholder 7" descr="DSC00014.JPG"/>
          <p:cNvPicPr/>
          <p:nvPr/>
        </p:nvPicPr>
        <p:blipFill>
          <a:blip r:embed="rId1"/>
          <a:srcRect l="0" t="1853" r="0" b="1853"/>
          <a:stretch/>
        </p:blipFill>
        <p:spPr>
          <a:xfrm>
            <a:off x="1752480" y="205740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24816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n get very crowde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 separate area for children or those with severe acuity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28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408834-8B75-4A7B-BE43-3ABFD3F0F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Let’s Get Treated!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Content Placeholder 8" descr="DSC00020.JPG"/>
          <p:cNvPicPr/>
          <p:nvPr/>
        </p:nvPicPr>
        <p:blipFill>
          <a:blip r:embed="rId1"/>
          <a:srcRect l="0" t="1853" r="0" b="1853"/>
          <a:stretch/>
        </p:blipFill>
        <p:spPr>
          <a:xfrm>
            <a:off x="1828800" y="198108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door the patient has to go through before reaching a health care professional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3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154315-FC01-41A4-9BE2-90AA2DCE8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3da8c"/>
                </a:solidFill>
                <a:latin typeface="Lucida Sans"/>
              </a:rPr>
              <a:t>The Hall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007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StarSymbo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lway width  is a rough equivalent of two hallway be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- EMS service comes in from the bac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- Critical care room placem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- Centralization of doctors &amp; nurse at one st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92" name="Picture Placeholder 11" descr="DSC00024.JPG"/>
          <p:cNvPicPr/>
          <p:nvPr/>
        </p:nvPicPr>
        <p:blipFill>
          <a:blip r:embed="rId1"/>
          <a:stretch/>
        </p:blipFill>
        <p:spPr>
          <a:xfrm>
            <a:off x="4038480" y="457200"/>
            <a:ext cx="4389480" cy="585288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293" name="PlaceHolder 3"/>
          <p:cNvSpPr>
            <a:spLocks noGrp="1"/>
          </p:cNvSpPr>
          <p:nvPr>
            <p:ph type="dt" idx="3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24FCD0-A3EF-4C84-A89C-D6EC66017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Hallway Bed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Content Placeholder 4" descr="DSC00046.JPG"/>
          <p:cNvPicPr/>
          <p:nvPr/>
        </p:nvPicPr>
        <p:blipFill>
          <a:blip r:embed="rId1"/>
          <a:srcRect l="0" t="1853" r="0" b="1853"/>
          <a:stretch/>
        </p:blipFill>
        <p:spPr>
          <a:xfrm>
            <a:off x="1828800" y="198108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tient’s vital signs can be monitore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re is no privacy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3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3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00C602-9458-4301-ADC0-2E3C8F853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Doctor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Content Placeholder 11" descr="DSC00022.JPG"/>
          <p:cNvPicPr/>
          <p:nvPr/>
        </p:nvPicPr>
        <p:blipFill>
          <a:blip r:embed="rId1"/>
          <a:stretch/>
        </p:blipFill>
        <p:spPr>
          <a:xfrm>
            <a:off x="457200" y="2286000"/>
            <a:ext cx="4023000" cy="30171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04" name="Content Placeholder 12" descr="DSC00033.JPG"/>
          <p:cNvPicPr/>
          <p:nvPr/>
        </p:nvPicPr>
        <p:blipFill>
          <a:blip r:embed="rId2"/>
          <a:stretch/>
        </p:blipFill>
        <p:spPr>
          <a:xfrm>
            <a:off x="4645800" y="2286000"/>
            <a:ext cx="4023000" cy="30171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05" name="PlaceHolder 2"/>
          <p:cNvSpPr>
            <a:spLocks noGrp="1"/>
          </p:cNvSpPr>
          <p:nvPr>
            <p:ph type="dt" idx="4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4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5C08F-4429-4B13-B6D0-7E79F3265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922680" y="1684080"/>
            <a:ext cx="29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up a patient - E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4888800" y="1684080"/>
            <a:ext cx="345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king to Radiology/Surgery/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Nurs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Content Placeholder 4" descr="DSC00036.JPG"/>
          <p:cNvPicPr/>
          <p:nvPr/>
        </p:nvPicPr>
        <p:blipFill>
          <a:blip r:embed="rId1"/>
          <a:stretch/>
        </p:blipFill>
        <p:spPr>
          <a:xfrm>
            <a:off x="533520" y="1828800"/>
            <a:ext cx="4541040" cy="340560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12" name="Content Placeholder 8" descr="DSC00027.JPG"/>
          <p:cNvPicPr/>
          <p:nvPr/>
        </p:nvPicPr>
        <p:blipFill>
          <a:blip r:embed="rId2"/>
          <a:stretch/>
        </p:blipFill>
        <p:spPr>
          <a:xfrm>
            <a:off x="5257800" y="1295280"/>
            <a:ext cx="3316320" cy="44193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13" name="PlaceHolder 2"/>
          <p:cNvSpPr>
            <a:spLocks noGrp="1"/>
          </p:cNvSpPr>
          <p:nvPr>
            <p:ph type="dt" idx="4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4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C6F000-2935-40CA-890D-CDD601C29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621720" y="5410080"/>
            <a:ext cx="189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ora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5348880" y="5791320"/>
            <a:ext cx="254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ing the mobile c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624</TotalTime>
  <Application>LibreOffice/7.4.7.2$Linux_X86_64 LibreOffice_project/40$Build-2</Application>
  <AppVersion>15.0000</AppVersion>
  <Words>481</Words>
  <Paragraphs>139</Paragraphs>
  <Company>Emory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3:05:54Z</dcterms:created>
  <dc:creator>My Ngoc</dc:creator>
  <dc:description/>
  <dc:language>en-US</dc:language>
  <cp:lastModifiedBy>jbeach</cp:lastModifiedBy>
  <dcterms:modified xsi:type="dcterms:W3CDTF">2008-09-23T18:09:06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